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11BDA-00C2-49DC-9ED7-D15D56019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F3D0-D0BF-485B-8713-6A5C92B47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6997B-D05F-4082-B1AB-778B9D8C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8373B-9696-4AF0-8F62-409F69E78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C3200-2A0B-4412-A8B3-D6A387123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99CA6-240B-493E-8E08-98E6E1EC9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9E30B-5738-4705-BD6B-30EE372AC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A63FF-BA7F-47D4-93CB-EB655A1D8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FCB6C-79CB-42AA-B12D-BC5F289FD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4D8E8-171E-4F36-BF01-06995DAC1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15791-A29F-4A40-8F5B-39FB2658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0EBE7-2796-4542-AF11-89B4E74D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6948-E854-4288-80E1-738B5E48F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DF90-9BE5-4CED-BD14-357CC6411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5BA6E-D320-401D-A08D-F4E9E3522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2511D-271C-457B-AD5A-EFEB5B0E4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C4871-58D8-4594-9E78-1A1C5A713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280A3E-1A53-451C-A963-74B25E47F1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44161-DF99-4D9A-A211-263053833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3DD97-FEF0-4A35-81A5-8A6FBE9B1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DD95E-ADC3-4BC5-A665-DFC717CFB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2EB46-7E64-40DD-AEBE-662BA1512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FD07-F9F7-4893-BB13-6EC010C1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42FE9-4464-4C74-B861-98D73C5EE2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CCD75-B004-4792-85B0-24B4A0BAB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728CB-741E-46D8-824C-3E6E5CB9A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FD92F-B56B-4B4A-B24B-16745FC80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EAC93-DC8E-4E23-B0B2-A0324639D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346D0B-C986-4BA1-B1FE-CE1BC91C9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5664A-6CEC-4710-B9F0-5584138AE2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71171D-9221-443D-93C6-4CA9538B37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859D1-02A1-4039-AD30-B0FF20F37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546AE-D304-44F3-ADC6-805DC823D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07D19-364B-4AD5-AA5F-308851626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46F60-3A2D-4C1A-8A14-07A70B89C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E2C5D-334B-43E8-97E9-CB02930F5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B7E86-A596-45C6-A226-007432252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BB7A4-F6AB-4D68-8A0B-BF63F66AA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0931C-63CE-4A33-87ED-080BE8490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15501-858D-48E7-83DA-76B3FB8EF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6EF4AB-E8DC-48A8-B737-AF347DEE0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13BB6E-9A03-473A-A7A2-EC8039BD0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9EEBD-D78F-4839-832B-83C4BEDF6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55419-5628-467B-A8FB-1844508A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1794-0DF2-4BBA-A7D5-9AED16E48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EE3F-B0F8-43B1-9A34-64F1A528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5F38-AB6B-482B-8184-6FF53D28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5A55-9B0F-4137-9DE0-D22717C35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D9EE-DE68-4CBA-A0AD-B7663882860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6BBD-7F02-4ECB-8755-87FC7B3C7A7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F417-501A-4446-855A-B2EB97AB70D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9B76-C17A-41DD-A33E-27FF6ED589C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lcom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merican Literatur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tudy of origins and development in the United States. Because literature evolves from what is going on around the writer, this class incorporates history as well as literature. We will be reading fiction, non-fiction, poetry, biographies, autobiographies, and novels.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You will be required to do a large amount  of reading and note-taking. (In and out of class.)</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room Philosoph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The Golden Rule:</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eacher has the right to teach.</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tudents have the right to learn.</a:t>
            </a:r>
            <a:endParaRPr b="0" lang="en-US" sz="3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No one </a:t>
            </a:r>
            <a:r>
              <a:rPr b="0" lang="en-US" sz="3200" spc="-1" strike="noStrike">
                <a:solidFill>
                  <a:srgbClr val="000000"/>
                </a:solidFill>
                <a:latin typeface="Constantia"/>
              </a:rPr>
              <a:t>has the right to interfere with th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 Participati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LASS PARTICIPATION GRAD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ginning on the first day of class, your class participation will count toward your grad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make it through the class following the rules, you will earn 5 point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I need to speak to you about failing to meet any of these rules, you will lose a point for each time I speak to you. (If I need to speak to you more than three times, I will send you to the office for discipline. Serious offenses may result in a loss of all points, as well as an office referra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l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e IN YOUR SEAT when the bell rings, not just in the roo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ave all material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spect everyone in the roo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articipate.</a:t>
            </a:r>
            <a:endParaRPr b="0" lang="en-US" sz="3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Know when to talk, and when to be quie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71f4"/>
                </a:solidFill>
                <a:latin typeface="Calibri"/>
              </a:rPr>
              <a:t>Things to NEVER say:</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we doing anything today? Variation: What are we doing tod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 printer wouldn’t pri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don’t want to work with ______.</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stup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hate thi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part of respect  and maturity is learning to think things, without always expressing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d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mework, questions, essays, poems, book reviews, artwork, etc.</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class assignments, reader responses, quizzes, essays, binder checks, etc.</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articipation, questions, comments, contributing to class discussions in a meaningful way, working with others in a collaborative settings, proper classroom conduct, respecting others, etc. </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pplie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You will need a three ring binder with divider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Loose leaf paper for your binder</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encil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en (not red)</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f you have any problem getting these items, see m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cebreaker</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ake anywhere between 1 and 10 Starburst.</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o not eat them until everyone gets some, and I give you directions.</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9T01:40:31Z</dcterms:created>
  <dc:creator>Ms. McCall</dc:creator>
  <dc:description/>
  <dc:language>en-US</dc:language>
  <cp:lastModifiedBy>Ms. McCall</cp:lastModifiedBy>
  <dcterms:modified xsi:type="dcterms:W3CDTF">2013-08-19T03:49:16Z</dcterms:modified>
  <cp:revision>9</cp:revision>
  <dc:subject/>
  <dc:title>Junior English</dc:title>
</cp:coreProperties>
</file>